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F50-F0EA-4201-BA1E-B7B3ADC2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A17-3ED3-4902-9367-91EA5A0D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6D1E1-2485-4927-9251-FBA4349A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EF12F-A1FF-4AA4-AA90-A3378D98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EE359-AB2A-48E0-86FB-C5AF4E91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8CB7F-66CD-4A27-86FD-FED53B2B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18CBE-4642-4B5A-AE42-BB00E267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88A73-6A77-4DAC-B1A9-0DDAB80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EE35E-3107-454B-8456-9757C92F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CF416-6997-4191-8874-F5AF7149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2E834-6B66-4CE5-9BBC-E162E97A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C1D8F-2918-4E4A-BA5F-CF6E9689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8E0-125C-40AC-A92C-E53E6F5F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3632B-0FFA-48F3-8342-C50BBF3E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28CD9-C766-457B-93F8-548E9CAA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1CF7B-6B63-4822-B8A1-9DE1468A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F00F6-0B14-4D11-B72B-8720AFBC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1513B-95E8-49A2-8799-C7A2F228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EF0AD-59C8-4BC1-97A2-FAAFD172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444B1-6124-46C7-800B-D0BFA113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5EFE8-A7DA-40D7-A0B6-CB21E1D4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B421E-6F3D-4051-8BBF-546ADB85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7640F-4D70-484D-9F44-C7D59C11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80B-1556-4D3D-AE47-5C952BC8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60F35-433F-472B-A67F-01152930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5D4E7-2DD0-46F0-AB67-70C84237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17F49-2045-4F94-84C5-F0C5D922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63B4B-74A0-40DC-A27C-704A3857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A93C8-3FB0-40B4-B8CC-ACD39A4C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5B180-B108-4FCF-9B7E-08A308D7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62FEB-9CBC-40EE-A740-43111BEB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A0EA0-8C89-4604-826B-66108B2C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C131A-9009-43E8-8D9D-B62F5AA3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0B269-EDA8-4707-90CB-ED48AB1B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315A-F291-4535-BC1B-18C71BFA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C4353-1F1F-4862-B097-6DC9D11A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F4645-8233-4FD8-A40E-CF476360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8DDD9-D934-4ED1-B49B-89BBD298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6440F-E6DE-4EC2-8CFE-0163C23D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BDBAF-4C67-4BCD-AD0C-549423D1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812DD-BC92-493E-AD84-57036A11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19ED2-8458-41EE-873F-D1FFF873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ADFF2-4319-41CF-8E90-1463A2F7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698E0-8645-4BD8-B5A1-07F12605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882B2-C763-4638-B0C8-7DEC7869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1DDF-3B69-44B8-A407-E3429F87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D2FA8-F3FE-486E-9B2E-104CDC2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BA990-CBFE-44A0-A876-954A7405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388F7-4E5D-4E9D-9392-A83C92B9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B6E00-C000-4370-8FEA-22221BA6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C70BE-3B5F-4358-A737-1DDE033B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3D20F-58DA-4B98-8470-6715A1A8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2878F-3530-4E1A-B83D-AA6A1D3F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83DFF-C3E9-4487-BE25-41EB9A7C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485D4-6B0D-48E0-AD83-CE68636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FBAB8-9449-4E3F-9E2B-76A58ED8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E39B-ED65-492D-8128-EADCD0F1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54F63-F690-47FA-A957-0D064038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A2C84-1D31-4082-8001-A308F5AE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C1563-061D-4DE1-8774-D8401432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4049C-28B3-47DB-9F1B-FCB7C4C5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A8A06-00C9-4C69-8C02-BECB2DC3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993E4-82B5-4D09-9EE2-F0629F1C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5A63E-3F69-41A2-B2B6-737BDC0E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4C919-2E77-4B0F-9D69-C564840F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3DBE4-9555-4F81-B366-C753BA5D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1F301-9DF4-4B22-BFFC-A5620B9E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F871-07ED-4A4B-9FD4-6EE9EC8F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F70D7-9C96-4658-A670-7ACE1073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98DE9-1FD6-48F2-B929-144698C2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E32C0-8AA8-4DC3-A999-0D37AA91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69951-E245-4F4B-B189-148FC3AC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CF351-8610-4E11-B4A4-8E274ED0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D58CE-AD88-46CF-B5B5-632E53B5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1C9D4-9478-4D05-98A9-65924058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A2C12-B19A-436F-9D3F-F47D17E6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95ED30-2D4C-4306-9466-85C681F6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A417E-ED0D-4E16-B420-77EE22EA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8A34-DDF6-42C0-87E0-EC7C60BB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B080F-8921-43D4-8A24-6595608D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711E57-0731-4BC1-AD3A-BF46515F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D9929-E801-4C6C-9C2A-5244EE9F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D00312-A1D7-40C2-9D23-3539C52F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CA47A-895D-4649-A735-1AC84963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5415C-CA24-4B77-BC23-81E6F12C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7A7890-071D-412E-9E0C-5139568C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CDD40-0D8F-4ABD-9962-E26C08A0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2165A-6E57-4510-96D3-50006C04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DB75B-1267-484E-86C3-139158FC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135D-F4E6-4AA1-A083-BCFE5BCB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D1B5B-DF37-42E7-9669-553EEC97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2AF33-6894-45C9-AE84-F863C1A3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5C002-B96A-42C9-BDEA-CBA20343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B9DEF-930B-47FA-9185-DCB7055E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B92353-0ABC-42ED-89E8-85D8001D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27329-701E-4C8E-9520-9BACF528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DC4A53-AB95-409A-BD25-0D3FEB42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F8823-D435-48C5-B687-1B76594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486C5-E1B8-4CFA-B37A-B1B2469F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B5815E-BAFE-4B96-8536-88F1405C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2114-A287-494E-98C9-9F50CC39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8BB66-9C60-430F-B4BB-D82FE0C3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07773-D59F-41EB-A67D-FAD58ADB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3759E2-2576-4721-B688-82AC018F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AA0F92-931B-4339-A249-E5EE7F7C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AB0FB-3621-4E40-A7F3-C13AFD2B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88804-2D48-4279-8C4B-83843F4E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1063EB-3C67-4701-B9D6-11EE397D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8F235-ABDD-4DF1-A935-C0F19A15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4E6E2-4A60-4771-8273-07247C9E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B6C41-084C-480A-98B5-E7D39D58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BFE-89D2-48D4-B4FE-E801C6C8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720D-F861-48E7-8342-9C3F4758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45FC9-426D-45B2-AA54-8E5EA800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26C972-2B52-4DF4-9D89-B20A50CF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881BD4-C740-47B1-90B0-F51C4F23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91777-5C13-45CA-B82D-E716A547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1AE47-CE18-4736-9865-F75DD86A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4994B2-2E38-4F0B-99E3-83EF29EB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ACA2CF-4A62-48C4-80C9-1928A70D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79D7B5-EF3D-43E3-A185-1988B54B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B3AC4-512E-43BA-A1F5-E62280C0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ABDB4B-441A-4ED7-97F8-B20DCE8C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BA58-5ACB-43FA-A2E0-44FE8C3F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68A53-ABCA-4F6C-90F2-A71060FC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4B9B07-DD5E-45DB-94C6-37AC22F4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52B51-B464-4CE9-BBE9-4722BFDB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8654D-98F7-492B-9592-71505A1F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86110-E4BB-4009-82F1-DE8582CB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88CC4-B164-4527-862B-DE46D3F0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734FFA-E2D7-4BE8-B0EF-1C0EA4DD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3492C-A973-410D-8827-2F00E23B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A4109B-533D-4EC7-84E7-55ED672F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47982-36AA-4F84-B91B-0AD0323C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E053-8946-405F-B40A-99AE237C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523128-5ECA-4010-ACD1-C337E31F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FEE27B-A860-4CC2-A37A-9663CEBC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17010D-8373-41C6-B57B-BFE73A62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116A25-D28A-4AF9-A695-4B17BA38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CC2BC5-1497-4EE0-8C0F-08AF91B8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13F3F4-1109-4D32-B693-D5BA6F12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65274-F2CB-4DFE-826F-F3F72730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4DBAC8-8E8F-4BF9-92EC-5242D47A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A9B9B-BF60-4827-929B-E7DECE23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5E6D56-8C62-4D46-802E-02D882DF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CF81-D02A-4CA2-B7C5-09B8C9D9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1E39D8-508C-435B-8F70-39EF9BF7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75F54-2A31-43B4-BF42-298705DF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C0888D-846F-4167-A11A-D95CFA6E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400C16-725A-4949-B5EB-50E7042F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878619-057E-4A5C-87E5-115B771F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6872A4-14B6-4ACB-876B-7DCE024F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06A1D-42CF-42B7-A814-9FC336F2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4C79B0-4815-4B13-B6E5-603BF3C0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EAF4F-E29C-4BA1-963F-57954868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E6EFB0-313D-4DF4-9678-96C348BE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8B40-B3B7-459F-A86E-6613DE94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ED3D47-3EBF-47E4-B05E-DA6A72E7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CC8BFD-689D-436A-A656-EDDA3D82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0B364-D51D-4A50-A7DA-620E67EA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58EE8E-06A9-4F94-BC68-22695689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BCEDEA-4178-4E33-AED3-7C0C1BFC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3AEC96-3C46-42C4-A06B-01505163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68F1AA-8DA4-4122-A8B2-A6C8849B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94F04-E16F-485B-BF55-DC02107D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EF3912-EFDD-4019-95C5-432EE684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5C692C-55E6-44E7-B68C-2C66D658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F1AD4-1CED-4A43-8BD8-62EDF2A2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1DD133-7F38-449D-863B-1AD23F91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BBE8DD-91DB-436D-97CC-FA91FFC7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617090-DE72-4EFD-B7F4-4A0BC911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EF9C0-E264-46A3-B979-4D19B976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E2FA2-D6CD-4260-9DCB-4B12B2C1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28B7-C3CE-4387-A1CE-EDF0590A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63AC-1BCD-48F6-94BD-842806C5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4D0-B2E7-4247-8F29-E6D642B9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D1AD3-1854-49F4-8E5B-9BCEF979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C7FB9-E616-42DB-B95A-65C12428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75280-2AAD-4841-B5A5-4836BCC6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5C68B-9E21-46B8-87DB-0B16806C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36D94-DF73-49F8-9E8E-BA90ECBD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AB00-2E8A-4C02-845B-054935FD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01C29-E9AA-43CC-A8B8-D0440B06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8E383-AA73-426A-84F7-3FA7753F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ECA2D-4F22-44E3-A3D1-E4488012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934C0-F805-42E6-B0BB-C2DD0384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244-4724-433B-A88E-5134E061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1E33D-A88D-4EF0-8D9E-F44E827C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2B3EC-E6B4-47ED-852C-4F499112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A9242-545D-4E74-9DE7-76B9CFCF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77B5-843C-486B-AFD5-451DB577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1751B-1F53-4E86-BA55-C58997BC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E6DB-2650-46FE-81EC-D38AFCFC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29C9-E842-4541-836B-E7820382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1DD0B-36A7-42C5-BE26-09CEB743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D1752-CB8B-44A6-BFA1-4986AD90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4C103-37DD-4475-9D21-A887867B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552-F5BE-4784-B7F0-7F453A6E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FCB55-EC86-4ED7-9F3C-0FBE6869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BC5E2-FFAF-4288-AF18-643B43CF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1BB39-4D9B-4A7A-A0DF-F7989A0E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CE6EC-19D0-456E-AF85-71213CCC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7B1B1-20C6-40FF-A870-743F033F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B1636-A6B8-4BCF-A753-80E9D928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95154-1D7A-466F-B1FA-1FC57B7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17997-72B0-4873-9892-2DA06E43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47F30-A6F4-4558-945B-1E9C9611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40BC9-DF42-45F8-84A9-2A0D5569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7B9-854E-4DD1-B043-8BB9D8AD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5444F-6FF6-43B5-A5E9-0B1FADC4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3AF08-AA78-402D-ACBA-DE6421EB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B23A9-134E-459D-8ADD-7199E18E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69970-3EC8-4EAD-B9F7-559A9C3B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1F0C1-9D25-4223-A633-15E93893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77AB4-1ABD-4AE8-A40A-ADA8E44B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F68CA-378D-4628-A202-8B9D982F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82C97-EF9A-4AFD-8CB4-7374B391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19BC8-A2FF-4247-B14C-032AB76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D0D3D-7BBA-4846-A222-AB84C7B6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833-EE1E-4427-BA39-E0C75F7C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BD617-202A-4F3E-A62F-FD3105A8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374E7-B47F-44F6-AE1C-22814B96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BBFFC-4B45-4A38-9CBB-C09A9983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8D3AF-49E8-43F7-A3FA-09FCBB97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4C9BD-C74B-42AB-B9AE-FB6A8486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D73C4-6816-4D01-950B-0A183854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6862E-E452-40D6-B0B1-9B0A43DB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4BA44-8A1D-47FF-99B8-D51585C3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4FF31-7723-4941-AA11-CC01604A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11CE1-B5ED-4E2C-A9B8-7799273D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C32-DB41-4AF7-A596-B3DE0A57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9C1EF-19C7-46B2-B6EA-B9D0B1C5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BDF94-B92E-4F9A-B2C6-F1E35A89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478D3-C226-496C-933C-8296A47A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146E3-9355-4514-999B-A7F3DA6C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D7798-8932-4D35-B847-C48E31A5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A95FA-831A-4C30-970D-6B6C6B3C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AA4B1-EAD1-4033-A240-B360166E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DE051-BD2B-4ED6-9EEA-CCC536D7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BFFCD-CF6E-4FCA-80F8-F702CEA3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11325-5AEF-4234-A2EA-6189D86F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61C7-7D43-4763-80D9-7CBD3599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2ABEC-D631-4051-93D9-ED62F793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F1881-2B2C-4740-88E5-F1C3C7E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7273A-14E5-459A-BD4A-AC002286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BB23A-4D33-43F0-AF1A-BAD924B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E2124-426D-466F-8589-6E74088A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BF4F5-7FD2-4B50-A6F4-EA17CD10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AFD07-AF97-420C-BE39-5E8804D0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A5F2A-82CC-481F-B2E8-A7C203A6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B18FF-435A-4C9B-AC96-8373010A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B923E-317B-44E4-B5D9-A21A4FBB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7A22-B313-4BCA-9495-91C6CF84D3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D016-E5B8-4F92-A70E-90B3C3B0B9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8608-13A7-4BC5-8C74-CC69315106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E001-B218-45BA-8077-C72B7FF720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77A8-E097-4D57-ABBC-1A455EB753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1CCD-51D0-4C99-87D5-40907EB01B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B1F9-7869-4BFC-B61C-064748CB64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FAA0-3AE3-4FAE-AB54-3A5254B020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3E47-CCDD-42EB-A9C5-3B3898C37F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3E9D-E353-4ADE-984A-9888F26138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122F-3587-47AA-BF4A-A796828B46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3AC4-8548-4154-9985-1A509CD072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9C0D-BD43-4B44-9350-9D83C42D4F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DDA3-8AAC-4CBB-91F0-9C513B0B7B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2502-A663-43AB-B5E7-37DB9DE2D0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B99B-8A90-4ED3-97BD-F7FEDF04F6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1660-4699-4300-923C-B84F357300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6663-74D4-4C02-8A17-DBBCDF95F2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E3B4-A219-4DB1-8EB9-7FC059AA8C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F783-1B78-4D8F-9408-0CCCF671FF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FA13-9705-47E3-90B7-2E0A76625C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652A-429C-4F9B-A2BC-BF011F58A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05D8-9851-4736-840F-B976F28A0F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41D5-4502-4F3D-A3F1-BA339E85C4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5D1C-72DA-449A-BB7B-DC1EECC037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5FFC-35C4-47DE-9585-AB9783291A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264D-D106-4F62-9180-31CA234043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1918-A3ED-492A-85CA-7377440BB3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F768-5F48-4BE4-A2A8-EDA45CC2BA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ED1B-F07B-4E54-BBFA-AC9C21704D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01E3-81C3-4016-A5A6-DD3536A889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EB39-0CE0-43B5-BA1D-5916379EE4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992F-548C-4052-8654-D880D26F93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C477-11AB-4C00-98EE-226E32D3F1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4898-809F-4AA5-BDFE-5525474B95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21B1-1944-4A01-AAD2-4F195AFB43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70E1-7647-45E2-9541-3D51474FDB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8EB6-8124-4ACD-9585-A6479126E8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9F81-B6C3-4427-ADAA-0981188189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6BC5-0BAF-4AA7-8F4E-2FE0C6F1B7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25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36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206280" y="3054240"/>
            <a:ext cx="854244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69633" descr=""/>
          <p:cNvPicPr/>
          <p:nvPr/>
        </p:nvPicPr>
        <p:blipFill>
          <a:blip r:embed="rId1"/>
          <a:stretch/>
        </p:blipFill>
        <p:spPr>
          <a:xfrm>
            <a:off x="200160" y="833400"/>
            <a:ext cx="8743680" cy="5619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5724360" y="1197000"/>
            <a:ext cx="863640" cy="38268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69635" descr=""/>
          <p:cNvPicPr/>
          <p:nvPr/>
        </p:nvPicPr>
        <p:blipFill>
          <a:blip r:embed="rId3"/>
          <a:stretch/>
        </p:blipFill>
        <p:spPr>
          <a:xfrm>
            <a:off x="5392800" y="2333520"/>
            <a:ext cx="2047680" cy="1905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324000" y="5573880"/>
            <a:ext cx="8640720" cy="3823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250920" y="6021360"/>
            <a:ext cx="86407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68609" descr=""/>
          <p:cNvPicPr/>
          <p:nvPr/>
        </p:nvPicPr>
        <p:blipFill>
          <a:blip r:embed="rId1"/>
          <a:stretch/>
        </p:blipFill>
        <p:spPr>
          <a:xfrm>
            <a:off x="223920" y="828720"/>
            <a:ext cx="8696160" cy="55530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7956720" y="3284640"/>
            <a:ext cx="5331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7585" descr=""/>
          <p:cNvPicPr/>
          <p:nvPr/>
        </p:nvPicPr>
        <p:blipFill>
          <a:blip r:embed="rId1"/>
          <a:stretch/>
        </p:blipFill>
        <p:spPr>
          <a:xfrm>
            <a:off x="200160" y="1419120"/>
            <a:ext cx="8743680" cy="4019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7927920" y="3213000"/>
            <a:ext cx="5335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66561" descr=""/>
          <p:cNvPicPr/>
          <p:nvPr/>
        </p:nvPicPr>
        <p:blipFill>
          <a:blip r:embed="rId1"/>
          <a:stretch/>
        </p:blipFill>
        <p:spPr>
          <a:xfrm>
            <a:off x="133200" y="1052640"/>
            <a:ext cx="8877600" cy="47527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5335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65543" descr=""/>
          <p:cNvPicPr/>
          <p:nvPr/>
        </p:nvPicPr>
        <p:blipFill>
          <a:blip r:embed="rId1"/>
          <a:stretch/>
        </p:blipFill>
        <p:spPr>
          <a:xfrm>
            <a:off x="290520" y="144360"/>
            <a:ext cx="8242200" cy="66564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8172360" cy="4734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65540" descr=""/>
          <p:cNvPicPr/>
          <p:nvPr/>
        </p:nvPicPr>
        <p:blipFill>
          <a:blip r:embed="rId3"/>
          <a:stretch/>
        </p:blipFill>
        <p:spPr>
          <a:xfrm>
            <a:off x="1590840" y="692280"/>
            <a:ext cx="3097080" cy="206532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65541" descr=""/>
          <p:cNvPicPr/>
          <p:nvPr/>
        </p:nvPicPr>
        <p:blipFill>
          <a:blip r:embed="rId4"/>
          <a:stretch/>
        </p:blipFill>
        <p:spPr>
          <a:xfrm>
            <a:off x="4932360" y="749160"/>
            <a:ext cx="2754360" cy="1976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611280" y="5214960"/>
            <a:ext cx="8172360" cy="473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684360" y="5708520"/>
            <a:ext cx="8172360" cy="4730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7"/>
          <a:stretch/>
        </p:blipFill>
        <p:spPr>
          <a:xfrm>
            <a:off x="611280" y="6342120"/>
            <a:ext cx="8172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76801" descr=""/>
          <p:cNvPicPr/>
          <p:nvPr/>
        </p:nvPicPr>
        <p:blipFill>
          <a:blip r:embed="rId1"/>
          <a:stretch/>
        </p:blipFill>
        <p:spPr>
          <a:xfrm>
            <a:off x="247680" y="1976400"/>
            <a:ext cx="86486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62465" descr=""/>
          <p:cNvPicPr/>
          <p:nvPr/>
        </p:nvPicPr>
        <p:blipFill>
          <a:blip r:embed="rId1"/>
          <a:stretch/>
        </p:blipFill>
        <p:spPr>
          <a:xfrm>
            <a:off x="457200" y="766800"/>
            <a:ext cx="8229600" cy="5324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611280" y="1887480"/>
            <a:ext cx="1584360" cy="473040"/>
          </a:xfrm>
          <a:prstGeom prst="rect">
            <a:avLst/>
          </a:prstGeom>
          <a:ln w="0">
            <a:noFill/>
          </a:ln>
        </p:spPr>
      </p:pic>
      <p:grpSp>
        <p:nvGrpSpPr>
          <p:cNvPr id="1074" name="组合 62470"/>
          <p:cNvGrpSpPr/>
          <p:nvPr/>
        </p:nvGrpSpPr>
        <p:grpSpPr>
          <a:xfrm>
            <a:off x="5219640" y="1844640"/>
            <a:ext cx="3529080" cy="2754360"/>
            <a:chOff x="5219640" y="1844640"/>
            <a:chExt cx="3529080" cy="2754360"/>
          </a:xfrm>
        </p:grpSpPr>
        <p:pic>
          <p:nvPicPr>
            <p:cNvPr id="1075" name="图片 62467" descr=""/>
            <p:cNvPicPr/>
            <p:nvPr/>
          </p:nvPicPr>
          <p:blipFill>
            <a:blip r:embed="rId3"/>
            <a:stretch/>
          </p:blipFill>
          <p:spPr>
            <a:xfrm>
              <a:off x="5219640" y="2389320"/>
              <a:ext cx="286704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" descr=""/>
            <p:cNvPicPr/>
            <p:nvPr/>
          </p:nvPicPr>
          <p:blipFill>
            <a:blip r:embed="rId4"/>
            <a:stretch/>
          </p:blipFill>
          <p:spPr>
            <a:xfrm>
              <a:off x="5724360" y="1844640"/>
              <a:ext cx="15843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1" descr=""/>
            <p:cNvPicPr/>
            <p:nvPr/>
          </p:nvPicPr>
          <p:blipFill>
            <a:blip r:embed="rId5"/>
            <a:stretch/>
          </p:blipFill>
          <p:spPr>
            <a:xfrm>
              <a:off x="7885080" y="3645000"/>
              <a:ext cx="86364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8" name="Picture 1" descr=""/>
          <p:cNvPicPr/>
          <p:nvPr/>
        </p:nvPicPr>
        <p:blipFill>
          <a:blip r:embed="rId6"/>
          <a:stretch/>
        </p:blipFill>
        <p:spPr>
          <a:xfrm>
            <a:off x="2195640" y="1916280"/>
            <a:ext cx="3024000" cy="4730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7"/>
          <a:stretch/>
        </p:blipFill>
        <p:spPr>
          <a:xfrm>
            <a:off x="539640" y="2492280"/>
            <a:ext cx="4753080" cy="4730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8"/>
          <a:stretch/>
        </p:blipFill>
        <p:spPr>
          <a:xfrm>
            <a:off x="468360" y="3068640"/>
            <a:ext cx="4753080" cy="4730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9"/>
          <a:stretch/>
        </p:blipFill>
        <p:spPr>
          <a:xfrm>
            <a:off x="539640" y="3645000"/>
            <a:ext cx="4753080" cy="4730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10"/>
          <a:stretch/>
        </p:blipFill>
        <p:spPr>
          <a:xfrm>
            <a:off x="468360" y="4221000"/>
            <a:ext cx="4753080" cy="4734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11"/>
          <a:stretch/>
        </p:blipFill>
        <p:spPr>
          <a:xfrm>
            <a:off x="539640" y="4869000"/>
            <a:ext cx="4753080" cy="473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12"/>
          <a:stretch/>
        </p:blipFill>
        <p:spPr>
          <a:xfrm>
            <a:off x="468360" y="5416560"/>
            <a:ext cx="8280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61441" descr=""/>
          <p:cNvPicPr/>
          <p:nvPr/>
        </p:nvPicPr>
        <p:blipFill>
          <a:blip r:embed="rId1"/>
          <a:stretch/>
        </p:blipFill>
        <p:spPr>
          <a:xfrm>
            <a:off x="142920" y="195120"/>
            <a:ext cx="8858160" cy="6467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4824360" cy="473040"/>
          </a:xfrm>
          <a:prstGeom prst="rect">
            <a:avLst/>
          </a:prstGeom>
          <a:ln w="0">
            <a:noFill/>
          </a:ln>
        </p:spPr>
      </p:pic>
      <p:grpSp>
        <p:nvGrpSpPr>
          <p:cNvPr id="1087" name="组合 61446"/>
          <p:cNvGrpSpPr/>
          <p:nvPr/>
        </p:nvGrpSpPr>
        <p:grpSpPr>
          <a:xfrm>
            <a:off x="5796000" y="3297240"/>
            <a:ext cx="3097080" cy="2044800"/>
            <a:chOff x="5796000" y="3297240"/>
            <a:chExt cx="3097080" cy="2044800"/>
          </a:xfrm>
        </p:grpSpPr>
        <p:pic>
          <p:nvPicPr>
            <p:cNvPr id="1088" name="图片 61443" descr=""/>
            <p:cNvPicPr/>
            <p:nvPr/>
          </p:nvPicPr>
          <p:blipFill>
            <a:blip r:embed="rId3"/>
            <a:stretch/>
          </p:blipFill>
          <p:spPr>
            <a:xfrm>
              <a:off x="5827680" y="3297240"/>
              <a:ext cx="207648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Picture 1" descr=""/>
            <p:cNvPicPr/>
            <p:nvPr/>
          </p:nvPicPr>
          <p:blipFill>
            <a:blip r:embed="rId4"/>
            <a:stretch/>
          </p:blipFill>
          <p:spPr>
            <a:xfrm>
              <a:off x="5796000" y="4869000"/>
              <a:ext cx="158436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Picture 1" descr=""/>
            <p:cNvPicPr/>
            <p:nvPr/>
          </p:nvPicPr>
          <p:blipFill>
            <a:blip r:embed="rId5"/>
            <a:stretch/>
          </p:blipFill>
          <p:spPr>
            <a:xfrm>
              <a:off x="7827840" y="3429000"/>
              <a:ext cx="1065240" cy="107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1" name="Picture 1" descr=""/>
          <p:cNvPicPr/>
          <p:nvPr/>
        </p:nvPicPr>
        <p:blipFill>
          <a:blip r:embed="rId6"/>
          <a:stretch/>
        </p:blipFill>
        <p:spPr>
          <a:xfrm>
            <a:off x="755640" y="3832200"/>
            <a:ext cx="4824360" cy="4730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7"/>
          <a:stretch/>
        </p:blipFill>
        <p:spPr>
          <a:xfrm>
            <a:off x="826920" y="4451400"/>
            <a:ext cx="48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8"/>
          <a:stretch/>
        </p:blipFill>
        <p:spPr>
          <a:xfrm>
            <a:off x="826920" y="5027760"/>
            <a:ext cx="48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9"/>
          <a:stretch/>
        </p:blipFill>
        <p:spPr>
          <a:xfrm>
            <a:off x="826920" y="5589720"/>
            <a:ext cx="48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10"/>
          <a:stretch/>
        </p:blipFill>
        <p:spPr>
          <a:xfrm>
            <a:off x="755640" y="6237360"/>
            <a:ext cx="4824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图片 70657" descr=""/>
          <p:cNvPicPr/>
          <p:nvPr/>
        </p:nvPicPr>
        <p:blipFill>
          <a:blip r:embed="rId1"/>
          <a:stretch/>
        </p:blipFill>
        <p:spPr>
          <a:xfrm>
            <a:off x="438120" y="1271520"/>
            <a:ext cx="8267760" cy="43149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4680000" cy="473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3"/>
          <a:stretch/>
        </p:blipFill>
        <p:spPr>
          <a:xfrm>
            <a:off x="611280" y="1930320"/>
            <a:ext cx="4680000" cy="4730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4"/>
          <a:stretch/>
        </p:blipFill>
        <p:spPr>
          <a:xfrm>
            <a:off x="684360" y="2536920"/>
            <a:ext cx="5832360" cy="4730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5"/>
          <a:stretch/>
        </p:blipFill>
        <p:spPr>
          <a:xfrm>
            <a:off x="539640" y="3083040"/>
            <a:ext cx="8136000" cy="4730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6"/>
          <a:stretch/>
        </p:blipFill>
        <p:spPr>
          <a:xfrm>
            <a:off x="539640" y="3673440"/>
            <a:ext cx="8136000" cy="4730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7"/>
          <a:stretch/>
        </p:blipFill>
        <p:spPr>
          <a:xfrm>
            <a:off x="539640" y="4292640"/>
            <a:ext cx="8136000" cy="473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8"/>
          <a:stretch/>
        </p:blipFill>
        <p:spPr>
          <a:xfrm>
            <a:off x="468360" y="4883040"/>
            <a:ext cx="8136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581120" y="890640"/>
            <a:ext cx="5981760" cy="55627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6372360" y="2378160"/>
            <a:ext cx="1295280" cy="473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5508720" y="3298680"/>
            <a:ext cx="1295280" cy="4734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2771640" y="5113440"/>
            <a:ext cx="2448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59410" descr=""/>
          <p:cNvPicPr/>
          <p:nvPr/>
        </p:nvPicPr>
        <p:blipFill>
          <a:blip r:embed="rId1"/>
          <a:stretch/>
        </p:blipFill>
        <p:spPr>
          <a:xfrm>
            <a:off x="1619280" y="871560"/>
            <a:ext cx="5905440" cy="5114880"/>
          </a:xfrm>
          <a:prstGeom prst="rect">
            <a:avLst/>
          </a:prstGeom>
          <a:ln w="0">
            <a:noFill/>
          </a:ln>
        </p:spPr>
      </p:pic>
      <p:grpSp>
        <p:nvGrpSpPr>
          <p:cNvPr id="1028" name="组合 59413"/>
          <p:cNvGrpSpPr/>
          <p:nvPr/>
        </p:nvGrpSpPr>
        <p:grpSpPr>
          <a:xfrm>
            <a:off x="2376360" y="3573360"/>
            <a:ext cx="4305600" cy="2560680"/>
            <a:chOff x="2376360" y="3573360"/>
            <a:chExt cx="4305600" cy="2560680"/>
          </a:xfrm>
        </p:grpSpPr>
        <p:pic>
          <p:nvPicPr>
            <p:cNvPr id="1029" name="图片 59411" descr=""/>
            <p:cNvPicPr/>
            <p:nvPr/>
          </p:nvPicPr>
          <p:blipFill>
            <a:blip r:embed="rId2"/>
            <a:stretch/>
          </p:blipFill>
          <p:spPr>
            <a:xfrm>
              <a:off x="2376360" y="3573360"/>
              <a:ext cx="430560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Picture 1" descr=""/>
            <p:cNvPicPr/>
            <p:nvPr/>
          </p:nvPicPr>
          <p:blipFill>
            <a:blip r:embed="rId3"/>
            <a:stretch/>
          </p:blipFill>
          <p:spPr>
            <a:xfrm>
              <a:off x="3635280" y="5661000"/>
              <a:ext cx="53352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58373" descr=""/>
          <p:cNvPicPr/>
          <p:nvPr/>
        </p:nvPicPr>
        <p:blipFill>
          <a:blip r:embed="rId1"/>
          <a:stretch/>
        </p:blipFill>
        <p:spPr>
          <a:xfrm>
            <a:off x="1581120" y="947880"/>
            <a:ext cx="5981760" cy="49622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3621240" y="3213000"/>
            <a:ext cx="4046400" cy="401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547640" y="3701880"/>
            <a:ext cx="6264360" cy="401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1474920" y="4149720"/>
            <a:ext cx="2376360" cy="401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3938760" y="4105440"/>
            <a:ext cx="3728880" cy="473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6"/>
          <a:stretch/>
        </p:blipFill>
        <p:spPr>
          <a:xfrm>
            <a:off x="1619280" y="4567320"/>
            <a:ext cx="2376360" cy="401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7"/>
          <a:stretch/>
        </p:blipFill>
        <p:spPr>
          <a:xfrm>
            <a:off x="4067280" y="4537080"/>
            <a:ext cx="3728880" cy="473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8"/>
          <a:stretch/>
        </p:blipFill>
        <p:spPr>
          <a:xfrm>
            <a:off x="1476360" y="5027760"/>
            <a:ext cx="6191280" cy="401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9"/>
          <a:stretch/>
        </p:blipFill>
        <p:spPr>
          <a:xfrm>
            <a:off x="1476360" y="5516640"/>
            <a:ext cx="6191280" cy="4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7352" descr=""/>
          <p:cNvPicPr/>
          <p:nvPr/>
        </p:nvPicPr>
        <p:blipFill>
          <a:blip r:embed="rId1"/>
          <a:stretch/>
        </p:blipFill>
        <p:spPr>
          <a:xfrm>
            <a:off x="1623960" y="2567160"/>
            <a:ext cx="5896080" cy="17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6324" descr=""/>
          <p:cNvPicPr/>
          <p:nvPr/>
        </p:nvPicPr>
        <p:blipFill>
          <a:blip r:embed="rId1"/>
          <a:stretch/>
        </p:blipFill>
        <p:spPr>
          <a:xfrm>
            <a:off x="1609560" y="763560"/>
            <a:ext cx="5924880" cy="59054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3592440" y="6165720"/>
            <a:ext cx="2160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组合 55302"/>
          <p:cNvGrpSpPr/>
          <p:nvPr/>
        </p:nvGrpSpPr>
        <p:grpSpPr>
          <a:xfrm>
            <a:off x="237960" y="1162080"/>
            <a:ext cx="8668080" cy="4859280"/>
            <a:chOff x="237960" y="1162080"/>
            <a:chExt cx="8668080" cy="4859280"/>
          </a:xfrm>
        </p:grpSpPr>
        <p:pic>
          <p:nvPicPr>
            <p:cNvPr id="1044" name="图片 55300" descr=""/>
            <p:cNvPicPr/>
            <p:nvPr/>
          </p:nvPicPr>
          <p:blipFill>
            <a:blip r:embed="rId1"/>
            <a:stretch/>
          </p:blipFill>
          <p:spPr>
            <a:xfrm>
              <a:off x="237960" y="1162080"/>
              <a:ext cx="8668080" cy="453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图片 55301" descr=""/>
            <p:cNvPicPr/>
            <p:nvPr/>
          </p:nvPicPr>
          <p:blipFill>
            <a:blip r:embed="rId2"/>
            <a:stretch/>
          </p:blipFill>
          <p:spPr>
            <a:xfrm>
              <a:off x="3822840" y="3500280"/>
              <a:ext cx="5041800" cy="252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8244000" y="2637000"/>
            <a:ext cx="431640" cy="3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4277" descr=""/>
          <p:cNvPicPr/>
          <p:nvPr/>
        </p:nvPicPr>
        <p:blipFill>
          <a:blip r:embed="rId1"/>
          <a:stretch/>
        </p:blipFill>
        <p:spPr>
          <a:xfrm>
            <a:off x="239760" y="115920"/>
            <a:ext cx="8724960" cy="454356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5427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5048280" cy="2076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8244000" y="907920"/>
            <a:ext cx="431640" cy="3826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8317080" y="260820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2231" descr=""/>
          <p:cNvPicPr/>
          <p:nvPr/>
        </p:nvPicPr>
        <p:blipFill>
          <a:blip r:embed="rId1"/>
          <a:stretch/>
        </p:blipFill>
        <p:spPr>
          <a:xfrm>
            <a:off x="228600" y="2023920"/>
            <a:ext cx="8686800" cy="28101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8215200" y="2859120"/>
            <a:ext cx="43200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29:0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